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C39-7C11-48D2-B393-F48BF8C0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B95-9C5C-4AD4-9389-C32767B1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1B9-CC4F-4839-8A68-CA632658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48A-0559-4C2E-83C9-22B7AC07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ED9-7560-4CEB-8744-C7E2B637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232-3265-4B46-8A8D-3DFC6855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CE1-331E-44F8-8FA1-FD9B389A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3A2B-4918-425E-B629-313F6945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4CFD-122F-47B3-AB81-F2F00205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CB1-D2ED-4305-9455-5B3E13AE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01B-31EA-4CD3-823A-4BA25CC1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A5B-080B-4228-A2A1-12B86183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EB9E-ECF1-4F79-8C7B-C9B8702F4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fr.wikipedia.org/wiki/A&#233;roport_de_Marseille_Provence" TargetMode="External"/><Relationship Id="rId3" Type="http://schemas.openxmlformats.org/officeDocument/2006/relationships/hyperlink" Target="http://fr.wikipedia.org/wiki/A&#233;roport_de_Marseille_Provence" TargetMode="External"/><Relationship Id="rId4" Type="http://schemas.openxmlformats.org/officeDocument/2006/relationships/hyperlink" Target="http://fr.wikipedia.org/wiki/A&#233;roport_de_Marseille_Provence" TargetMode="External"/><Relationship Id="rId5" Type="http://schemas.openxmlformats.org/officeDocument/2006/relationships/hyperlink" Target="http://fr.wikipedia.org/wiki/A&#233;roport_de_Marseille_Provence" TargetMode="External"/><Relationship Id="rId6" Type="http://schemas.openxmlformats.org/officeDocument/2006/relationships/hyperlink" Target="http://fr.wikipedia.org/wiki/A&#233;roport_de_Marseille_Provence" TargetMode="External"/><Relationship Id="rId7" Type="http://schemas.openxmlformats.org/officeDocument/2006/relationships/hyperlink" Target="http://fr.wikipedia.org/wiki/A&#233;roport_de_Marseille_Provence" TargetMode="External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 u="sng">
                <a:solidFill>
                  <a:srgbClr val="000000"/>
                </a:solidFill>
                <a:uFillTx/>
                <a:latin typeface="Arial"/>
              </a:rPr>
              <a:t>Marseil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Arial"/>
              </a:rPr>
              <a:t>Palais</a:t>
            </a: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4400" spc="-1" strike="noStrike">
                <a:solidFill>
                  <a:srgbClr val="ffffff"/>
                </a:solidFill>
                <a:latin typeface="Arial"/>
              </a:rPr>
              <a:t>Longch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Fichier:Marseille Palais Longchamp At Night JD 22052007.jp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VD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Musé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Le Musée d’Histoire de Marseille 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ichier:Maison diamantée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Le musée du Vieux</a:t>
            </a:r>
            <a:br>
              <a:rPr sz="4400"/>
            </a:b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Le Musée d'art contempora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Entrez sur l'annuaire SPORTS IN MARSEIL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BouillabaisseThaiStyle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4675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ouillabais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Pan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84360" y="146196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Bour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90600" y="1881360"/>
            <a:ext cx="476280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La monna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Le Tran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Arial"/>
              </a:rPr>
              <a:t>Mètr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74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mw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9999"/>
                </a:solidFill>
                <a:latin typeface="Arial"/>
              </a:rPr>
              <a:t>L'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éroport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nternational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Marseille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-Provence</a:t>
            </a:r>
            <a:r>
              <a:rPr b="0" lang="es-ES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Arial"/>
              </a:rPr>
              <a:t>Le Vieux-Port 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’abbaye 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Saint-Victor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File:Notre Dame de la Gar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La Basilique de Notre Dame de la Garde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9:34:24Z</dcterms:created>
  <dc:creator>Anii</dc:creator>
  <dc:description/>
  <dc:language>en-US</dc:language>
  <cp:lastModifiedBy>papa</cp:lastModifiedBy>
  <dcterms:modified xsi:type="dcterms:W3CDTF">2011-04-13T23:52:40Z</dcterms:modified>
  <cp:revision>4</cp:revision>
  <dc:subject/>
  <dc:title>Marseille</dc:title>
</cp:coreProperties>
</file>